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92C-E3A3-4BFF-928E-B1C0A621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7AB-9024-46FB-9716-6B476DA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500-EAE0-4462-8286-9B868530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00C-C67B-453D-9311-14060D9E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210-770F-4CB3-888A-03A0F6F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9B1-D058-4D3B-AA96-3938FAA1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FBA-5515-4F2F-A298-10AD4281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935-C120-4DAF-A997-20C2DF6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EC9-3384-4176-B657-60440AA2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ED4-9557-4569-885F-F86314E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118-BC5E-411B-B760-880A669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529-BC8D-4FD7-BD19-4187BEB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8A23A-BD4B-413A-AC33-63DE34ED05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00" y="1436760"/>
            <a:ext cx="7019640" cy="5041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aposa e o le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494240"/>
            <a:ext cx="9070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"/>
              </a:rPr>
              <a:t>Tinha a raposa sua cova bem fechada e estava dentro gemendo porque estava bem enfe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0" y="806400"/>
            <a:ext cx="3810240" cy="33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800360"/>
            <a:ext cx="10152000" cy="602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gou a porta um leão e perguntou-lhe como estava e que abrisse porque a queria lamber, que tinha virtude na língua e ele lambendo-a logo havia de sar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539640"/>
            <a:ext cx="233964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600360"/>
            <a:ext cx="9070920" cy="34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Respondeu a raposa de dentro:</a:t>
            </a:r>
            <a:br>
              <a:rPr sz="3200"/>
            </a:br>
            <a:r>
              <a:rPr b="0" lang="pt-BR" sz="3200" spc="-1" strike="noStrike">
                <a:solidFill>
                  <a:srgbClr val="008080"/>
                </a:solidFill>
                <a:latin typeface="Arial Black"/>
              </a:rPr>
              <a:t>-Não posso abrir nem quero creio que tem virtude a tua língua, porém é tão mal vizinhança a dos dentes , que lhe tenho grande medo, e  portanto quero antes sofrer-me com meu 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08800" y="57960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647640"/>
            <a:ext cx="216072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65680" y="1079640"/>
            <a:ext cx="1714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360" y="900000"/>
            <a:ext cx="907092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RAL DA HISTÒRIA: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isa-nos essa raposa que quando nos oferecem, alguma obra boa notemos, as circunstâncias dela, que as vezes são tais, que custam muito mais do que a obra p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5580000"/>
            <a:ext cx="287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1:58:17Z</dcterms:created>
  <dc:creator/>
  <dc:description/>
  <dc:language>en-US</dc:language>
  <cp:lastModifiedBy/>
  <cp:revision>1</cp:revision>
  <dc:subject/>
  <dc:title/>
</cp:coreProperties>
</file>